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7697-31E9-4DE2-9089-53299D237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7358-1088-442B-B783-E9E7E9D7334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05A9-C103-4067-8106-3F0E484FCBA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AE92E-ACD8-489F-9027-7E8CE593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C396F-CF6A-445D-B1DC-1C857A6C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3D957-4A5E-4FF3-B98F-FC58BDA61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06ECD-5BA6-4D3F-8566-A6FCF645B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CE27D-9D3B-44E4-8C4C-55EE537FB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4352E-BE1C-42EA-B82E-6B95165EE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90362-8255-44CA-87BE-7A3D7F1B1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4C998-0E3D-47D8-B25E-A3CC13BC0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793FA-DA6A-4E9F-8E8A-2D1485DDF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0BEA8-349B-46D9-A0C3-0F9D1575C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0B6AD-C447-42C6-85D6-73D3E93E8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D944A-197A-4896-99F4-E5BA4E80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678C3-2A59-44B1-A7E1-D06B230F2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CA714-241A-4EBD-8B7D-ADB4DC3C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F6D33-909B-4CDA-913A-312FABD9F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F502E-37D4-4A89-A3B6-B790B3915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FA5DA-13ED-4FEC-8591-EA8A75FED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6DFB0-B78D-4D77-ABDF-38D5DC226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52A32-DF22-410D-9ADF-CA02E0C90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ACDA1-5704-4470-9F2E-8E11748C8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9D249-ED3D-4710-A9A5-FDED49C0F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E888D-68A5-4C04-BB39-DD25E0482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9458-EB1B-4406-B50E-A859B49F5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415D9-139B-484F-AE79-EFBB5425D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6038B-455A-462D-A187-EAA64E337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2162A-D77A-4E8E-8CAA-3E879F4DE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3EBB8-CFC0-40CF-BC3C-C4036E4ED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74DF4-2864-45B7-944B-B1BF252AD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C18BE-93AF-4575-8252-A4F6FADDB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076F0-073F-43F8-99D7-1BB6B31CC0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C3842B-DE38-4523-8881-2B08EAF7F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7102F-C492-4A9E-A68D-C5F4BBC54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DDF81-3C44-4259-BC51-781B3BF71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71C0-6CD7-441E-BBE0-8E69D086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0D869-10B2-4980-AB30-C934E9E73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C658B-E5AB-4CB5-8F75-0AC5410C6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3CCD0-A981-4F43-BEBC-132CD3116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F643A-94E6-439B-8339-C4CC57E35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24DDF-B7FF-49F3-80F4-34FE70A00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4A336-87DA-441C-BE73-39C273D60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94560-E9F7-41A1-9969-AF57ACEF2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F5975-076C-42A7-8F23-85B8F9B9F4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714DC-85E9-4611-B6A7-B8CA0972A0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1063B0-6F70-4F5D-9B67-F282E65DD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BF49-AB91-4C83-BBB5-CBF09F25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57BF5-7E90-4A4E-85AE-1C64380BF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DFDEC-301A-4E20-A7DA-4FC3D5493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6ACC06-40C6-4DF9-8984-2ACF34832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38621-E8FB-41D3-A8E9-7D8136108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A2498-7804-4A31-A6F8-B10844268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2E5EE-4370-4595-BB7A-E9AB1FC56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4E041-CBB7-47B7-BA15-5D1C3A753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568A4-404D-47BD-9411-B4B00A8E4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D0A10-897D-4D23-8B29-6336571AEF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E0115-B8FE-425C-999C-645DFEFC04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7DB0-A29A-4A63-8AEA-2CB2A6D9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5A187D-954C-490D-A865-E1BE270BD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A2F6-8D5F-44D0-B43D-02952F0E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8390-3E58-44C6-82EF-26D089B40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987D-40D7-4705-B378-3A09C0F80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4C67-F144-41C8-91EC-1FD5AFF89F7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A53A-54D5-45D7-B225-273C7E5EF14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9B74-2DAD-40AC-ADDF-86136785EB9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1306-0B5C-4A8B-99F0-FBE786F389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98D8-26E3-4729-B8D8-9DB62ADB3F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6400" y="1255680"/>
            <a:ext cx="8455320" cy="243828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8"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0"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1"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2"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3"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4"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7"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1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1"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26"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7"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8"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9"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0"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1"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2"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34"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35"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36"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7"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2-08T15:44:21Z</dcterms:modified>
  <cp:revision>18</cp:revision>
  <dc:subject/>
  <dc:title>Marketing Channels and Wholesaling</dc:title>
</cp:coreProperties>
</file>